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15.png" ContentType="image/png"/>
  <Override PartName="/ppt/media/image16.wmf" ContentType="image/x-wmf"/>
  <Override PartName="/ppt/media/image14.jpeg" ContentType="image/jpe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179-8D74-4C66-AAFA-E68A3821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612-5EB4-4BDE-8F14-C90B7AE2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7D4-0C15-4C02-B9BF-5D0105CD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863-7A07-4BE3-9689-A2DB2B33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8C78-2804-493F-9908-BD270648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03BC-B24F-4AB5-AA7F-A1AEED5E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55B1-D97C-42F4-9E7E-9F42736A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86E8-DA2C-4A05-8126-CBB983C2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A77E-F6E7-4DF3-B54E-5958BB5B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C6CE-11DE-479C-92FC-F5DF1D21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A1EE-988E-415A-B950-FD347815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6614-19BC-43D6-A2CE-D00CCC7E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D48E-4F68-4DE2-90C4-59CB037C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5507-2510-4E86-B63C-6AFEB779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54AD-1357-4B8C-923B-CD654890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34AF-79B7-477B-AFF3-FD1043DB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D754-0A91-40EB-81D2-953CD7C8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36D-A9ED-4A00-8FB1-D34DB066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5BC-44A2-4697-9380-FDA7F41C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689-B393-4535-9580-4EDC00FF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DDB-26D1-41FA-8E0F-80DA05C3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223-4374-4947-9EDE-69466A2E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2E9-B8EE-4EA8-B5FF-CDB1F50D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89C9-627A-4C4E-BD5C-3124EE2C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692D-4CF2-4D27-8245-E6612B40D83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ашкина Ольга Владимировна Санкт-Петербург 2008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55EC-39CB-4E4A-8618-993E3D504C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CA59-867B-4E6D-8724-5A05975FF31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Лашкина Ольга Владимировна Санкт-Петербург 2008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02A0-3611-41BC-8D97-DE0B87F942A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hyperlink" Target="http://photo.sfu-kras.ru/albums/userpics/10788/normal_98~0.jpg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rttrans.com.ua/sub/posters/8114/Goddess_Isida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nc-egipt.narod.ru/HTM/Ancient_egypt_map.htm" TargetMode="External"/><Relationship Id="rId2" Type="http://schemas.openxmlformats.org/officeDocument/2006/relationships/hyperlink" Target="http://www.otpusk.ua/article.php?root=8&amp;item=253" TargetMode="External"/><Relationship Id="rId3" Type="http://schemas.openxmlformats.org/officeDocument/2006/relationships/hyperlink" Target="http://www.otpusk.ua/article.php?root=8&amp;item=253" TargetMode="External"/><Relationship Id="rId4" Type="http://schemas.openxmlformats.org/officeDocument/2006/relationships/hyperlink" Target="http://www.otpusk.ua/article.php?root=8&amp;item=253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evis.ucoz.ru/0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yramids.ru/st9.html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pliazh.ru/egypt/egypt.htm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7280" y="714240"/>
            <a:ext cx="74995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c85e"/>
                </a:solidFill>
                <a:latin typeface="Arial"/>
              </a:rPr>
              <a:t>«</a:t>
            </a:r>
            <a:r>
              <a:rPr b="0" lang="ru-RU" sz="4000" spc="-1" strike="noStrike">
                <a:solidFill>
                  <a:srgbClr val="eec85e"/>
                </a:solidFill>
                <a:latin typeface="Verdana"/>
              </a:rPr>
              <a:t>Религиозные верования древних египтян</a:t>
            </a:r>
            <a:r>
              <a:rPr b="0" lang="ru-RU" sz="4000" spc="-1" strike="noStrike">
                <a:solidFill>
                  <a:srgbClr val="eec85e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c85e"/>
                </a:solidFill>
                <a:latin typeface="Verdana"/>
              </a:rPr>
              <a:t>Урок истории в 5 классе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c85e"/>
                </a:solidFill>
                <a:latin typeface="Arial"/>
              </a:rPr>
              <a:t>Учитель: Степанова Н.Ф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-64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64000" y="620280"/>
            <a:ext cx="3394080" cy="43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? Подумайте, какое природное явление отражал этот миф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4" name="Object 6"/>
          <p:cNvGraphicFramePr/>
          <p:nvPr/>
        </p:nvGraphicFramePr>
        <p:xfrm>
          <a:off x="4572000" y="184464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84464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Заголовок 1" descr=""/>
          <p:cNvPicPr/>
          <p:nvPr/>
        </p:nvPicPr>
        <p:blipFill>
          <a:blip r:embed="rId3"/>
          <a:stretch/>
        </p:blipFill>
        <p:spPr>
          <a:xfrm>
            <a:off x="1908000" y="260280"/>
            <a:ext cx="5400720" cy="1727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Картинка 13 из 84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760" y="2571840"/>
            <a:ext cx="47862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517680" y="281160"/>
            <a:ext cx="8108640" cy="11332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Олицетворял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земледелие,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был судьей в царстве мертвых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9" descr="http://im2-tub.yandex.net/i?id=20799323-20-24"/>
          <p:cNvPicPr/>
          <p:nvPr/>
        </p:nvPicPr>
        <p:blipFill>
          <a:blip r:embed="rId2"/>
          <a:stretch/>
        </p:blipFill>
        <p:spPr>
          <a:xfrm>
            <a:off x="428760" y="1643040"/>
            <a:ext cx="40003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си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c85e"/>
                </a:solidFill>
                <a:latin typeface="Verdana"/>
              </a:rPr>
              <a:t>Защитница всех жен и матерей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5" descr="is?UogBFDOwzMmAtsK4IlgR7OCPydRfkwOTmCf-wTYVCM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557360"/>
            <a:ext cx="4172040" cy="4178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603360" y="298440"/>
            <a:ext cx="7967520" cy="1006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http://im3-tub.yandex.net/i?id=389461116-00-24"/>
          <p:cNvPicPr/>
          <p:nvPr/>
        </p:nvPicPr>
        <p:blipFill>
          <a:blip r:embed="rId2"/>
          <a:stretch/>
        </p:blipFill>
        <p:spPr>
          <a:xfrm>
            <a:off x="3286080" y="1500120"/>
            <a:ext cx="2428920" cy="3897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Заголовок 1" descr=""/>
          <p:cNvPicPr/>
          <p:nvPr/>
        </p:nvPicPr>
        <p:blipFill>
          <a:blip r:embed="rId1"/>
          <a:stretch/>
        </p:blipFill>
        <p:spPr>
          <a:xfrm>
            <a:off x="603360" y="298440"/>
            <a:ext cx="7967520" cy="100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E:\Интернет\13.jpeg"/>
          <p:cNvPicPr/>
          <p:nvPr/>
        </p:nvPicPr>
        <p:blipFill>
          <a:blip r:embed="rId2"/>
          <a:stretch/>
        </p:blipFill>
        <p:spPr>
          <a:xfrm>
            <a:off x="2878200" y="2060640"/>
            <a:ext cx="330660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759880" cy="1158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http://im0-tub.yandex.net/i?id=66326010-09-24"/>
          <p:cNvPicPr/>
          <p:nvPr/>
        </p:nvPicPr>
        <p:blipFill>
          <a:blip r:embed="rId2"/>
          <a:stretch/>
        </p:blipFill>
        <p:spPr>
          <a:xfrm>
            <a:off x="2143080" y="1714680"/>
            <a:ext cx="4572000" cy="292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Параграф 10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читать/ пересказывать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Заполнить в тетради таблиц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« Религиозные верования древнего мира», графа «Египет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есурсы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360" y="112536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anc-egipt.narod.ru/HTM/Ancient_egypt_map.ht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www.otpusk.ua/article.php?root</a:t>
            </a: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=8&amp;item=25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ttp://tourism.at.ua/publ/7-1-0-32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ttp://www.travel-good.ru/study-435-2.htm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ttp://roddom.rodim.ru/conference/lofiversion/index.php/t38906-550.htm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ttp://photo.sfu-kras.ru/albums/userpics/10788/normal_98~0.jp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ttp://www.werno.ru/page/139/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ttp://www.peremeny.ru/books/osminog/782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41964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93840" y="1197000"/>
            <a:ext cx="269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арт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ревнего Египт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Picture 8" descr="Картинка 5 из 39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846920" cy="345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Тема урока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: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Религиозные верования древних египтян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«Чтение по цепочке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Параграф 10,пункт 1, стр.49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c85e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 Какие основные понятия мы можем выделить из этого пункт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Запишите их самостоятельно в тетрад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ЖРЕ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ХРА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609480" y="317520"/>
            <a:ext cx="7974000" cy="1011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http://im7-tub.yandex.net/i?id=74940449-14-24"/>
          <p:cNvPicPr/>
          <p:nvPr/>
        </p:nvPicPr>
        <p:blipFill>
          <a:blip r:embed="rId2"/>
          <a:stretch/>
        </p:blipFill>
        <p:spPr>
          <a:xfrm>
            <a:off x="2786040" y="1714680"/>
            <a:ext cx="335772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ирамиды- гробницы фараон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5" descr="is?VWK9X8zl16qUSKQeo561xep5CkjhmsxSOfnikGe4zB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557360"/>
            <a:ext cx="3600360" cy="215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is?Kc_HmlhstXnZRAt4iskDzul-yeVAxtUhXrtSFp7Aw1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3933720"/>
            <a:ext cx="3601800" cy="2087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C:\Documents and Settings\Admin\Мои документы\Мои рисунки\pyramids-of-giza.jpg"/>
          <p:cNvPicPr/>
          <p:nvPr/>
        </p:nvPicPr>
        <p:blipFill>
          <a:blip r:embed="rId5"/>
          <a:stretch/>
        </p:blipFill>
        <p:spPr>
          <a:xfrm>
            <a:off x="4761000" y="1600200"/>
            <a:ext cx="3813120" cy="2189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http://im0-tub.yandex.net/i?id=98633960-05-24"/>
          <p:cNvPicPr/>
          <p:nvPr/>
        </p:nvPicPr>
        <p:blipFill>
          <a:blip r:embed="rId6"/>
          <a:stretch/>
        </p:blipFill>
        <p:spPr>
          <a:xfrm>
            <a:off x="4643280" y="3929040"/>
            <a:ext cx="407196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:\Users\tarasova\Desktop\Боги2.jpg"/>
          <p:cNvPicPr/>
          <p:nvPr/>
        </p:nvPicPr>
        <p:blipFill>
          <a:blip r:embed="rId2"/>
          <a:stretch/>
        </p:blipFill>
        <p:spPr>
          <a:xfrm>
            <a:off x="3132000" y="1413000"/>
            <a:ext cx="2668680" cy="3240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:\Интернет\16.jpeg"/>
          <p:cNvPicPr/>
          <p:nvPr/>
        </p:nvPicPr>
        <p:blipFill>
          <a:blip r:embed="rId3"/>
          <a:stretch/>
        </p:blipFill>
        <p:spPr>
          <a:xfrm>
            <a:off x="684360" y="3357720"/>
            <a:ext cx="1584000" cy="2735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:\Интернет\4.jpeg"/>
          <p:cNvPicPr/>
          <p:nvPr/>
        </p:nvPicPr>
        <p:blipFill>
          <a:blip r:embed="rId4"/>
          <a:stretch/>
        </p:blipFill>
        <p:spPr>
          <a:xfrm>
            <a:off x="684360" y="260280"/>
            <a:ext cx="1557360" cy="2952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:\Интернет\9.jpeg"/>
          <p:cNvPicPr/>
          <p:nvPr/>
        </p:nvPicPr>
        <p:blipFill>
          <a:blip r:embed="rId5"/>
          <a:stretch/>
        </p:blipFill>
        <p:spPr>
          <a:xfrm>
            <a:off x="6877080" y="3213000"/>
            <a:ext cx="1511280" cy="295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:\Интернет\5.jpeg"/>
          <p:cNvPicPr/>
          <p:nvPr/>
        </p:nvPicPr>
        <p:blipFill>
          <a:blip r:embed="rId6"/>
          <a:stretch/>
        </p:blipFill>
        <p:spPr>
          <a:xfrm>
            <a:off x="6877080" y="260280"/>
            <a:ext cx="1503360" cy="2881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1719360" y="-1249200"/>
            <a:ext cx="7095960" cy="19875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71640" y="692280"/>
            <a:ext cx="741672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Амон – Ра- бог солнц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7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Апоп - бог тьм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7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Геб –  бог земл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7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Нут-  богиня неб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7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Тот-  бог мудро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7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Анубис – проводник в царстве мертвых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7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Бастет – богиня  красот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7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Священные животные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7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Апис- бы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7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Себек- крокоди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7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3:07:33Z</dcterms:created>
  <dc:creator>user</dc:creator>
  <dc:description/>
  <dc:language>en-US</dc:language>
  <cp:lastModifiedBy>Надежда</cp:lastModifiedBy>
  <dcterms:modified xsi:type="dcterms:W3CDTF">2021-01-10T15:20:18Z</dcterms:modified>
  <cp:revision>45</cp:revision>
  <dc:subject/>
  <dc:title>Религиозные верования древних египтян</dc:title>
</cp:coreProperties>
</file>